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C8C-9FD4-4E5C-BFE3-D8EB62FFD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FEA-2CCF-4C82-A95B-4617EB40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C79-635B-4B56-B904-CBCF0D87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12B-16CD-4D43-A797-6820AB59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DD7-0B67-466B-849E-2BEA1C53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F954-24D2-477B-94D0-D588B219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BA62-E29C-4B9F-BD98-0C61D945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EA5B-0DFB-4BE3-8EE1-689A598B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B609-E98C-444E-8E16-36CBCCCB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B7F6-1F09-46A8-A6A9-A08DDFD5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A1E1-FF90-486A-8C65-7FF7E8DB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197F-0286-4344-8FE4-4864474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902-12C3-4B2F-BE99-3DAE7A4E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D210-7445-4822-9CC3-C49AAAA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E794-0BF4-4FC9-AEC4-318168EC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6E37-AD10-4B25-B699-12241F2E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F88C-C43A-4731-88EB-0BD6F462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96E4-2AFE-4B1D-AE74-FDC44437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EE3-7996-46DA-AAA4-118CF89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8A1-28C2-443C-AB24-E2BD269D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CEE-E829-4EDE-AD70-8AF80194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976-838A-4C12-9A82-ECD3D972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839-365E-4D5B-852D-0B2ECEAA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219-6D19-4486-AF12-C45F3C3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729-5C21-48B3-B2F4-DEE19D6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3772-B53E-4C47-8084-CC5EA40204A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5D17-0864-4212-AACD-61B61A982E0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378936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be0e3"/>
                </a:solidFill>
                <a:latin typeface="Times New Roman"/>
              </a:rPr>
              <a:t>CARTESIAN COMPONENTS OF VECTORS</a:t>
            </a:r>
            <a:endParaRPr b="0" lang="en-US" sz="36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position vector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with coordinates 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, 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) i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O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1547640" y="2421000"/>
            <a:ext cx="360360" cy="0"/>
          </a:xfrm>
          <a:prstGeom prst="line">
            <a:avLst/>
          </a:prstGeom>
          <a:ln w="1584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672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tate the position vectors of the points with coordinate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8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5940360" y="2133720"/>
            <a:ext cx="0" cy="424800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564000" y="4076640"/>
            <a:ext cx="4751280" cy="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ketch the position vector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4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5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−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1916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32d2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227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26920" y="26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390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132d2f"/>
                </a:solidFill>
                <a:latin typeface="Times New Roman"/>
              </a:rPr>
              <a:t>modulus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of any vector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equal to its length. As we have noted earlier the modulus o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usually denoted by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When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modulus can be obtained using Pythagoras’ theorem. 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the position vector of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n the modulus is clearly the distance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rom the origi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55640" y="1413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then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√(a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.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7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8)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Depict these points on a diagram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State the position vector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Find an expression for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Fi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AB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067280" y="249228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285264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 rot="10800000">
            <a:off x="826920" y="3428640"/>
            <a:ext cx="34308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0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Two-dimensional Coordinate frames</a:t>
            </a: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28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4221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diagram shows a two-dimensional coordinate frame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plane of the figure can be defined in terms of it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oordinate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042920" y="350028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187280" y="13413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 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521080" cy="226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58920" y="1341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258920" y="3573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23880"/>
            <a:ext cx="7479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Draw the vectors 5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and 4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. Use your diagram and the triangle law of addition to add these two vectors together. 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600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can be expressed in the for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number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re called the components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68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raw a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and show the vector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2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5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using column vector notatio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how the sum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the resultant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erm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41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 rot="10800000">
            <a:off x="4716000" y="3933360"/>
            <a:ext cx="34578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9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7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8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,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−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24:33Z</dcterms:created>
  <dc:creator>zafer</dc:creator>
  <dc:description>Cartesian Components maths</dc:description>
  <cp:keywords>Cartesian Components maths</cp:keywords>
  <dc:language>en-US</dc:language>
  <cp:lastModifiedBy>RomaK</cp:lastModifiedBy>
  <dcterms:modified xsi:type="dcterms:W3CDTF">2015-09-04T07:38:21Z</dcterms:modified>
  <cp:revision>7</cp:revision>
  <dc:subject>Cartesian Components maths</dc:subject>
  <dc:title>Cartesian Components maths</dc:title>
</cp:coreProperties>
</file>